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5920" y="1917360"/>
            <a:ext cx="1097280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15920" y="5016600"/>
            <a:ext cx="109728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" name=""/>
          <p:cNvSpPr/>
          <p:nvPr/>
        </p:nvSpPr>
        <p:spPr>
          <a:xfrm>
            <a:off x="1003320" y="4879800"/>
            <a:ext cx="11010960" cy="0"/>
          </a:xfrm>
          <a:prstGeom prst="line">
            <a:avLst/>
          </a:prstGeom>
          <a:ln w="1260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544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697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548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12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165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marL="64836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1017000" indent="-42660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38600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75500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2123640" indent="-42660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2123640" indent="-42660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2123640" indent="-42660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544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697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548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12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165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5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0000"/>
          </a:bodyPr>
          <a:p>
            <a:pPr marL="46872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735120" indent="-3081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00188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26864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535040" indent="-3081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535040" indent="-30816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535040" indent="-30816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67428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2564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377000" indent="-46404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28000" indent="-46404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07900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079000" indent="-463680">
              <a:spcBef>
                <a:spcPts val="2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079000" indent="-463680">
              <a:spcBef>
                <a:spcPts val="2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844360"/>
            <a:ext cx="10464840" cy="406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>
              <a:spcBef>
                <a:spcPts val="1001"/>
              </a:spcBef>
              <a:buClr>
                <a:srgbClr val="727272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>
              <a:spcBef>
                <a:spcPts val="1001"/>
              </a:spcBef>
              <a:buClr>
                <a:srgbClr val="727272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768960" indent="-49932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146600" indent="-49896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524600" indent="-49932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902600" indent="-49932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280240" indent="-49896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280240" indent="-498960">
              <a:spcBef>
                <a:spcPts val="115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280240" indent="-498960">
              <a:spcBef>
                <a:spcPts val="115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9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5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41192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7192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13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131560" indent="-475560">
              <a:spcBef>
                <a:spcPts val="50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131560" indent="-475560">
              <a:spcBef>
                <a:spcPts val="50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140976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80520" y="478800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15920" y="1917360"/>
            <a:ext cx="10972800" cy="2793960"/>
          </a:xfrm>
          <a:prstGeom prst="rect">
            <a:avLst/>
          </a:prstGeom>
          <a:noFill/>
          <a:ln w="0">
            <a:noFill/>
          </a:ln>
          <a:effectLst>
            <a:outerShdw dist="76041" dir="14043144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Free and Open Source Software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15920" y="5016240"/>
            <a:ext cx="1097280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Leaders: Chapter 8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Technology and the Administrator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Chris Cerulli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Summer 2012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8686800" y="5016600"/>
            <a:ext cx="3809880" cy="4483080"/>
          </a:xfrm>
          <a:prstGeom prst="rect">
            <a:avLst/>
          </a:prstGeom>
          <a:ln w="0">
            <a:noFill/>
          </a:ln>
          <a:effectLst>
            <a:outerShdw dist="126806" dir="14040511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165240" y="5740560"/>
            <a:ext cx="439560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114360" dir="13614805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Discussion Question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In your opinion, do you feel that freeware and shareware should be given more consideration as cost-efficient alternatives, since they are so similar in functionality, to perhaps the more recognizable yet more expensive norms? 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23320" indent="-534600">
              <a:lnSpc>
                <a:spcPct val="100000"/>
              </a:lnSpc>
              <a:buClr>
                <a:srgbClr val="737373"/>
              </a:buClr>
              <a:buSzPct val="77000"/>
              <a:buFont typeface="Marker Fel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37373"/>
                </a:solidFill>
                <a:latin typeface="Marker Felt"/>
              </a:rPr>
              <a:t>Planning - Don’t rush - plan carefully - involve IT staff, vendors, teachers</a:t>
            </a:r>
            <a:endParaRPr b="0" lang="en-US" sz="33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038"/>
              </a:spcBef>
              <a:buClr>
                <a:srgbClr val="737373"/>
              </a:buClr>
              <a:buSzPct val="77000"/>
              <a:buFont typeface="Marker Fel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37373"/>
                </a:solidFill>
                <a:latin typeface="Marker Felt"/>
              </a:rPr>
              <a:t>Training - train leaders first, test to monitor necessary follow up training before full development</a:t>
            </a:r>
            <a:endParaRPr b="0" lang="en-US" sz="33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038"/>
              </a:spcBef>
              <a:buClr>
                <a:srgbClr val="737373"/>
              </a:buClr>
              <a:buSzPct val="77000"/>
              <a:buFont typeface="Marker Fel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37373"/>
                </a:solidFill>
                <a:latin typeface="Marker Felt"/>
              </a:rPr>
              <a:t>Hiring - update job descriptions to include experience with FOSS</a:t>
            </a:r>
            <a:endParaRPr b="0" lang="en-US" sz="33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038"/>
              </a:spcBef>
              <a:buClr>
                <a:srgbClr val="737373"/>
              </a:buClr>
              <a:buSzPct val="77000"/>
              <a:buFont typeface="Marker Fel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37373"/>
                </a:solidFill>
                <a:latin typeface="Marker Felt"/>
              </a:rPr>
              <a:t>Purchasing - make transformation intentions clear to current and prospective vendors</a:t>
            </a:r>
            <a:endParaRPr b="0" lang="en-US" sz="33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038"/>
              </a:spcBef>
              <a:buClr>
                <a:srgbClr val="737373"/>
              </a:buClr>
              <a:buSzPct val="77000"/>
              <a:buFont typeface="Marker Fel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37373"/>
                </a:solidFill>
                <a:latin typeface="Marker Felt"/>
              </a:rPr>
              <a:t>Implementation - start with low-risk projects, build confidence, take on larger projects</a:t>
            </a:r>
            <a:endParaRPr b="0" lang="en-US" sz="33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24" name=""/>
          <p:cNvSpPr/>
          <p:nvPr/>
        </p:nvSpPr>
        <p:spPr>
          <a:xfrm>
            <a:off x="1270080" y="25416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114360" dir="13614805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  <a:ea typeface="Marker Felt"/>
              </a:rPr>
              <a:t>Next Steps...</a:t>
            </a:r>
            <a:endParaRPr b="0" lang="en-US" sz="84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23320" indent="-534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37373"/>
                </a:solidFill>
                <a:latin typeface="Marker Felt"/>
              </a:rPr>
              <a:t>Start small...</a:t>
            </a:r>
            <a:endParaRPr b="0" lang="en-US" sz="44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37373"/>
                </a:solidFill>
                <a:latin typeface="Marker Felt"/>
              </a:rPr>
              <a:t>Follow the link below for a list of simple, FOSS programs. Read the descriptions. Pick one which you feel you could easily integrate into your current curriculum and explain your reasoning.</a:t>
            </a:r>
            <a:endParaRPr b="0" lang="en-US" sz="44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Marker Felt"/>
              </a:rPr>
              <a:t>http://www.valo-cd.net/html-ui-en/index.html</a:t>
            </a:r>
            <a:endParaRPr b="0" lang="en-US" sz="44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26" name=""/>
          <p:cNvSpPr/>
          <p:nvPr/>
        </p:nvSpPr>
        <p:spPr>
          <a:xfrm>
            <a:off x="1270080" y="25416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114360" dir="13614805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  <a:ea typeface="Marker Felt"/>
              </a:rPr>
              <a:t>FOSS Resources</a:t>
            </a:r>
            <a:endParaRPr b="0" lang="en-US" sz="84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041" dir="14043144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What is it???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23320" indent="-534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37373"/>
                </a:solidFill>
                <a:latin typeface="Marker Felt"/>
              </a:rPr>
              <a:t>Free Software and Open Source Software = same phenomenon</a:t>
            </a:r>
            <a:endParaRPr b="0" lang="en-US" sz="44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37373"/>
                </a:solidFill>
                <a:latin typeface="Marker Felt"/>
              </a:rPr>
              <a:t>“</a:t>
            </a:r>
            <a:r>
              <a:rPr b="0" lang="en-US" sz="4400" spc="-1" strike="noStrike">
                <a:solidFill>
                  <a:srgbClr val="737373"/>
                </a:solidFill>
                <a:latin typeface="Marker Felt"/>
              </a:rPr>
              <a:t>Free software is a matter of the users’ freedom to run, copy, distribute, study, change, and improve the software.”                 - Todd Hoffman</a:t>
            </a:r>
            <a:endParaRPr b="0" lang="en-US" sz="44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37373"/>
                </a:solidFill>
                <a:latin typeface="Marker Felt"/>
              </a:rPr>
              <a:t>“</a:t>
            </a:r>
            <a:r>
              <a:rPr b="0" lang="en-US" sz="4400" spc="-1" strike="noStrike">
                <a:solidFill>
                  <a:srgbClr val="737373"/>
                </a:solidFill>
                <a:latin typeface="Marker Felt"/>
              </a:rPr>
              <a:t>free” does not refer to the cost - refers to the user’s freedom with the software</a:t>
            </a:r>
            <a:endParaRPr b="0" lang="en-US" sz="44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041" dir="14043144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So... What is it???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68280" y="2920680"/>
            <a:ext cx="6756480" cy="539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814320" indent="-52848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ree and Open Sourced Software (FOSS) is any program that allows the user to edit, modify, or personalize the program through source code programming.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 rot="280200">
            <a:off x="7854840" y="3219120"/>
            <a:ext cx="3810240" cy="4368600"/>
          </a:xfrm>
          <a:prstGeom prst="rect">
            <a:avLst/>
          </a:prstGeom>
          <a:ln w="0">
            <a:noFill/>
          </a:ln>
          <a:effectLst>
            <a:outerShdw dist="114300" dir="4321294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041" dir="14043144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4 Freedoms of FOSS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87320" indent="-5108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e freedom to run the program, for any purpose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marL="787320" indent="-510840">
              <a:lnSpc>
                <a:spcPct val="100000"/>
              </a:lnSpc>
              <a:spcBef>
                <a:spcPts val="24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e freedom to study how the program works, and change it to make it do what you wish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marL="787320" indent="-510840">
              <a:lnSpc>
                <a:spcPct val="100000"/>
              </a:lnSpc>
              <a:spcBef>
                <a:spcPts val="24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e freedom to redistribute copies so you can help your neighbor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marL="787320" indent="-510840">
              <a:lnSpc>
                <a:spcPct val="100000"/>
              </a:lnSpc>
              <a:spcBef>
                <a:spcPts val="24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e freedom to distribute copies of your modified versions to others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844360"/>
            <a:ext cx="10464840" cy="4064040"/>
          </a:xfrm>
          <a:prstGeom prst="rect">
            <a:avLst/>
          </a:prstGeom>
          <a:noFill/>
          <a:ln w="0">
            <a:noFill/>
          </a:ln>
          <a:effectLst>
            <a:outerShdw dist="76041" dir="14043144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OK... so how does that help me as an educator?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041" dir="14043144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4 Freedoms: Rephrased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32320" indent="-54036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Use the software at as many sites or seats as the school would like at no licensing cost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marL="832320" indent="-540360">
              <a:lnSpc>
                <a:spcPct val="100000"/>
              </a:lnSpc>
              <a:spcBef>
                <a:spcPts val="21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Modify or customize the software or pay someone else to do so to suit the school’s needs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marL="832320" indent="-540360">
              <a:lnSpc>
                <a:spcPct val="100000"/>
              </a:lnSpc>
              <a:spcBef>
                <a:spcPts val="21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Give students and teachers copies of the software so they have full access both at home and in the future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marL="832320" indent="-540360">
              <a:lnSpc>
                <a:spcPct val="100000"/>
              </a:lnSpc>
              <a:spcBef>
                <a:spcPts val="21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Collaborate with other schools, businesses, and other entities to promote, distribute, and receive improvements to the software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041" dir="14043144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What isn’t considered FOSS?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23320" indent="-534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37373"/>
                </a:solidFill>
                <a:latin typeface="Marker Felt"/>
              </a:rPr>
              <a:t> </a:t>
            </a:r>
            <a:r>
              <a:rPr b="0" lang="en-US" sz="3800" spc="-1" strike="noStrike">
                <a:solidFill>
                  <a:srgbClr val="737373"/>
                </a:solidFill>
                <a:latin typeface="Marker Felt"/>
              </a:rPr>
              <a:t>Software written with open source, but not available to end user as open source</a:t>
            </a:r>
            <a:endParaRPr b="0" lang="en-US" sz="38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313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37373"/>
                </a:solidFill>
                <a:latin typeface="Marker Felt"/>
              </a:rPr>
              <a:t>Just because its free to use, doesn’t mean its free for you to modify or edit</a:t>
            </a:r>
            <a:endParaRPr b="0" lang="en-US" sz="38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313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37373"/>
                </a:solidFill>
                <a:latin typeface="Marker Felt"/>
              </a:rPr>
              <a:t>Free for some, not for all - its a privilege, don’t abuse it (free for a school, not for a business)</a:t>
            </a:r>
            <a:endParaRPr b="0" lang="en-US" sz="3800" spc="-1" strike="noStrike">
              <a:solidFill>
                <a:srgbClr val="737373"/>
              </a:solidFill>
              <a:latin typeface="Marker Felt"/>
            </a:endParaRPr>
          </a:p>
          <a:p>
            <a:pPr marL="823320" indent="-534600">
              <a:lnSpc>
                <a:spcPct val="100000"/>
              </a:lnSpc>
              <a:spcBef>
                <a:spcPts val="2313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37373"/>
                </a:solidFill>
                <a:latin typeface="Marker Felt"/>
              </a:rPr>
              <a:t> </a:t>
            </a:r>
            <a:r>
              <a:rPr b="0" lang="en-US" sz="3800" spc="-1" strike="noStrike">
                <a:solidFill>
                  <a:srgbClr val="737373"/>
                </a:solidFill>
                <a:latin typeface="Marker Felt"/>
              </a:rPr>
              <a:t>Open Standards - standard file types and formats allow data to be exchanged among applications (.doc vs .pages)</a:t>
            </a:r>
            <a:endParaRPr b="0" lang="en-US" sz="3800" spc="-1" strike="noStrike">
              <a:solidFill>
                <a:srgbClr val="737373"/>
              </a:solidFill>
              <a:latin typeface="Marker Felt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6"/>
          <a:stretch/>
        </p:blipFill>
        <p:spPr>
          <a:xfrm rot="21207000">
            <a:off x="228240" y="3871800"/>
            <a:ext cx="1282680" cy="12826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08" name="" descr=""/>
          <p:cNvPicPr/>
          <p:nvPr/>
        </p:nvPicPr>
        <p:blipFill>
          <a:blip r:embed="rId7"/>
          <a:stretch/>
        </p:blipFill>
        <p:spPr>
          <a:xfrm rot="430800">
            <a:off x="9878760" y="2006640"/>
            <a:ext cx="313668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114360" dir="13614805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How is FOSS helping schools?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Making more 1:1 Initiatives financially possible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79388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ost of computers is going down, software is getting more expensive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79388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Using FOSS can keep software costs under $5 per se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7978680" y="233280"/>
            <a:ext cx="3594240" cy="25275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6705720" y="5689440"/>
            <a:ext cx="6135480" cy="19558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330120" y="5092560"/>
            <a:ext cx="3581640" cy="28450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1117440" y="291960"/>
            <a:ext cx="2540160" cy="20829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9468000" y="7569000"/>
            <a:ext cx="104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28"/>
                </a:solidFill>
                <a:latin typeface="Marker Felt"/>
                <a:ea typeface="Marker Felt"/>
              </a:rPr>
              <a:t>Free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16" name=""/>
          <p:cNvSpPr/>
          <p:nvPr/>
        </p:nvSpPr>
        <p:spPr>
          <a:xfrm>
            <a:off x="137880" y="2539800"/>
            <a:ext cx="449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2712"/>
                </a:solidFill>
                <a:latin typeface="Marker Felt"/>
                <a:ea typeface="Marker Felt"/>
              </a:rPr>
              <a:t>$10,000 per school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17" name=""/>
          <p:cNvSpPr/>
          <p:nvPr/>
        </p:nvSpPr>
        <p:spPr>
          <a:xfrm>
            <a:off x="564480" y="8000640"/>
            <a:ext cx="310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2712"/>
                </a:solidFill>
                <a:latin typeface="Marker Felt"/>
                <a:ea typeface="Marker Felt"/>
              </a:rPr>
              <a:t>$42/machine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18" name=""/>
          <p:cNvSpPr/>
          <p:nvPr/>
        </p:nvSpPr>
        <p:spPr>
          <a:xfrm>
            <a:off x="9569520" y="2984400"/>
            <a:ext cx="104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28"/>
                </a:solidFill>
                <a:latin typeface="Marker Felt"/>
                <a:ea typeface="Marker Felt"/>
              </a:rPr>
              <a:t>Free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19" name=""/>
          <p:cNvSpPr/>
          <p:nvPr/>
        </p:nvSpPr>
        <p:spPr>
          <a:xfrm>
            <a:off x="5212080" y="7048440"/>
            <a:ext cx="720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VS.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20" name=""/>
          <p:cNvSpPr/>
          <p:nvPr/>
        </p:nvSpPr>
        <p:spPr>
          <a:xfrm>
            <a:off x="5453280" y="1320480"/>
            <a:ext cx="720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VS.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